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87DB-518F-4717-97C8-4ECCFCB8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0062-2FB8-4A05-A808-45ED0DAC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B9D-403A-44EF-BE5B-780A5BE2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3BB-2CCF-4922-9EDE-8C2A7253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282-C89A-4474-9F11-C577B455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3AE-6F97-4850-8F91-E85D3A4C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41F8-CEF0-4B29-9AA4-CD832FC5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E5A9-ED8C-4D72-A7AC-85523F5F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3DC9-C70A-45AA-81B0-B75EA0E7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B3F-B20F-436D-ABF7-6909CF17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090C-F63F-4DE5-892E-430FBBD7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E73-AD48-4582-9947-1426130D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153B-9288-48EF-800B-41A7228E73E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OO  /  ENOUG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OO + ADJECTIVE/ADVER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XCESSIVE (more than necessa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is jacket i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too expensiv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 I’m not going to buy it. No way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t’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too cold </a:t>
            </a: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to go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wimming. Let’s go to the cinema inste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e test wa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too difficult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 I don’t  think I’ll pa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You ar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too young </a:t>
            </a: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to go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o a disco. You must be 18 to get i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e on! You ar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too old </a:t>
            </a: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to ride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e Merry-Go-Rou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00720" y="1534680"/>
            <a:ext cx="4186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DJECTIVE/ADVERB + ENOU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U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You are not working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hard enough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 If you don’t study more, you won’t pass your tes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e is not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tall enough </a:t>
            </a: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to be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 the basketball te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 will never b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rich enough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Calibri"/>
              </a:rPr>
              <a:t>to buy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at hou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e on! You are not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small enough </a:t>
            </a: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to get through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at hole. You will never reach the other si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20:13:57Z</dcterms:created>
  <dc:creator>JOSU</dc:creator>
  <dc:description/>
  <dc:language>en-US</dc:language>
  <cp:lastModifiedBy>JOSU</cp:lastModifiedBy>
  <dcterms:modified xsi:type="dcterms:W3CDTF">2014-02-18T20:47:14Z</dcterms:modified>
  <cp:revision>4</cp:revision>
  <dc:subject/>
  <dc:title>Diapositiva 1</dc:title>
</cp:coreProperties>
</file>